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DA04-1194-4EB4-88B9-ADA83EEDC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29E0-74E0-4798-9DF1-5FE2D69645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FC5E-53A2-4A4D-946F-413D434EFA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118F-23B1-430C-9667-F037CF3CDD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A2D2-D6F2-45BF-920A-8E0C1AD926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8438-309E-473C-B7C4-0A27699FFF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435D-EF53-4611-B6C0-046A63875F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746-5897-4E00-B131-481E89AF72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0D1-C340-404A-A9CD-9AA6F9B619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450A-A443-42AB-A656-24331BF2EE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FC4-180C-45B1-AE6E-BC4A33896C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BAB5-CACB-4D9C-87F9-544C897421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C048-C521-4235-BC6B-D6CA8CFCB4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FD08-6843-4473-BAE6-9BAB7686BF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1A60-0507-4C8C-A65D-B227F79520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2970-168B-4A65-97DA-33918C8FBF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0FAE-5AD0-44AC-A517-A75F070428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D063-8990-4164-AC37-5AB20155A6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7F71-F536-4407-A571-529F54181C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7282-3A7B-489C-A488-3023BB9A59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A556-C73A-444C-9261-53EC326DA0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BC2-52E3-4E89-8C8D-A13F3A03A9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57C-6498-4498-B974-03712A3B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AF2-BF89-4753-88DE-C8FBE453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67C-D26A-4309-A621-C078313A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2D6-9FBC-45EC-912A-D6E49A2D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71BC-3C76-4165-BE2A-F0C658EE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F307-F406-4C21-ABD0-90BF2B42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3298-45BF-4F34-83E8-D999B84E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7F88-B7EB-4DF4-9E6C-44423A04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ABC1-FB89-4A41-AF21-D3054278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686F-FA2E-4B65-A51A-53C58562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D47D-510D-43BA-9C49-A7F2FE10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368-710A-4F5B-B150-74F97BA1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82F7-3355-4E5B-BF22-C47DA01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665B-358F-4D9D-A846-13E54FA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D312-E56A-4998-8CE3-19FD2047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BCA5-1FC2-4B29-BAF5-F7515645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9B33-5CB9-4E57-931D-77ED126A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BF6A-57F9-469A-8C3E-45498CF8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95D3-0616-40B9-ACCE-FFA001B8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CE16-68F2-4219-A9F6-A926181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61C7-DA7C-4694-9334-9E598D4B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8292-FD10-4DC8-ADC3-93E4D814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AFC-DBCF-4BB0-9AB9-068B1D14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4AB68-5F5B-4D5C-823A-CA60C5C3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678F-3360-47D0-A27B-A6F227A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AD25-B63C-421A-995D-1DB7C65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35A6-9D09-4859-B22D-F02C88F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7BE7B-3C31-4327-9B20-602F7E17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A80B-0E15-407C-9845-58412964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F807C-B5B2-4320-A24D-9FE49BCC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7849-96DC-4AAB-BAF5-0A9B0C31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1174A-16E8-4ED2-BAAC-3AC47714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9B4B-1DD5-4B5A-8C97-031B6352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3F5-8253-49EF-8831-6457E5C3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66852-B8BA-4D0F-9B9D-6CE5DD95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D3C32-43A7-451C-AEA6-9F9AE234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5C237-C9FD-47A7-BBA8-C508DD1C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6CF4-5671-44C4-BECD-059E94D6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A3A8-28FE-45DB-897F-7263149D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F0489-F998-4B0E-869A-A681790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A601-25FB-45D2-994F-B14FAE8E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203E-66E4-43FB-858B-2CFC5421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BE1E-B761-4B6D-9F81-5A0206DB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0B00A-C1AD-4E6F-9A22-1BE20C86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266-DE3C-4E17-8615-079244C8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1DA4-8B3F-49B5-9298-C25B0C0A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E4D1-418E-4F50-BF60-7A407ECE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3847-8CE6-42BE-8247-3E53D192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5424-A64A-4AD8-8948-742A1B72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1830-4B84-453A-A494-910A8E63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700D7-1B11-4D98-8D7F-EC039E7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81098-4A4A-4064-AE7B-DAD11C48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11CEE-6468-406B-A0EC-40A5971E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3FA79-1F51-4D46-84AC-56C3A35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B066-B8EE-4D87-9C26-5E65BADC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AC4-3280-49ED-96E7-8D71B296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6A899-EEF7-4BD5-8485-47193D2B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0F43F-7B92-4D73-BB02-F9C2521C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C1B24-F5B5-4792-96B7-39C13442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BA9A-99A0-4A10-9E56-C2AF85FC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E436-C7E8-4FDD-8E35-FDD2DF0E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CD87-32BB-4393-B53D-6ECC499C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3F42D-F54C-4C07-8B0E-58955086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7BA08-AFFE-44BC-BBC1-A7A8D532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32E7-A50D-4469-AA86-4C6CDF62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6EB59-58DC-4A2E-A5AF-E494ED0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032-EBEE-46B0-BAFF-ECDBA748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5FD1-F1C1-4FFB-998A-7E051A1E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90C5D-0520-4E79-A247-376289B7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BEFB6-14AC-4217-B759-60051103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840FB-0444-4177-A061-DC6A222A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9F74C-E453-48D4-B02D-B4302EDD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1CEE-3F9B-48B5-B50B-98FA180F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AC66-7A9C-46CA-BF22-DEF3129D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A4E60-C86E-43EA-8947-70C0FD33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3812D-56F5-4D4C-A070-F1940784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DC654-8F5A-4AEE-B49E-A78A02B4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7DA-AD8E-4B4B-87EA-B6BD367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D4EE1-00DC-423C-AD0E-710C8A0E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8FE95-C187-4275-815E-9AD6A8FF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E78AE-4BAF-4170-8540-CE40280A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5FCF0-DF57-4453-846A-17A427C4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AB7E1-1516-4A67-9841-4823BDC5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E2FD9-7EEB-46C7-AACD-7FE013C0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01E18-E5C8-43EF-9EE3-5FAABF66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7E318-CF94-4A67-A1FE-4FC78E67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CFE9C-D6D4-469E-81BC-AD2F9266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E7711-EBCE-40B9-88CC-8E41E3C8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CE6-8B2C-49E6-9D0D-2CD17F56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7870C-A5B4-448D-8C6A-A7C973BD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4DD46-6844-4B9B-B89A-5DDAA512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B1E27-9451-4F1D-ADAF-57FBB27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F6ADF-2FAC-455D-86AC-41BBDB2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53FD7-894E-4184-B1DA-56F65ACC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A6D50-5C90-4410-887D-8D08C320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0781F-6866-42DA-A00D-55E19632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E7C6-FDB6-4E99-874B-C1DCFFB899A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0101"/>
              </a:gs>
              <a:gs pos="100000">
                <a:srgbClr val="ff6c6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4907-875D-47E2-A4BE-82D98BA7EC86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134E-50FE-49E6-ABF9-8E3CB59F6CA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0101"/>
              </a:gs>
              <a:gs pos="100000">
                <a:srgbClr val="ff6c6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2FE9-75EB-4458-B62F-B8B54D59080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383B-9EE4-4EEF-913A-AA1EF232690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4827-224B-48D5-90AD-9DDE99BCC19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643F-673B-42BA-AD36-DC661D5287C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682560" y="1341360"/>
            <a:ext cx="7778880" cy="2925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7BE6-C3F0-4E3D-85C6-C4D691957116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95D7-125D-45E7-93CA-05851DF4EB8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69800" y="1773360"/>
            <a:ext cx="8388360" cy="1708200"/>
          </a:xfrm>
          <a:prstGeom prst="rect">
            <a:avLst/>
          </a:prstGeom>
          <a:ln w="0">
            <a:noFill/>
          </a:ln>
        </p:spPr>
      </p:pic>
      <p:pic>
        <p:nvPicPr>
          <p:cNvPr id="354" name="Subtitle 2" descr=""/>
          <p:cNvPicPr/>
          <p:nvPr/>
        </p:nvPicPr>
        <p:blipFill>
          <a:blip r:embed="rId2"/>
          <a:stretch/>
        </p:blipFill>
        <p:spPr>
          <a:xfrm>
            <a:off x="469800" y="3645000"/>
            <a:ext cx="822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75920"/>
            <a:ext cx="8229600" cy="597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IEUX DE RENCONTR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APAA, dans les bars/Clubs pour gay, restaurant pour gay et aussi sur la rue Church qui est le village ga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Sont-ils acceptes ou rejeté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Il n’y a des mythes dans toutes sociétés, mais ici au Canada ils font face à moins de risque de rejet comparer à leur pays d’orig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450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s en place pour desservir les nouveaux arrivants  Africains, les Caribéens et les Noirs au Canada,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insi que les personnes qui s’identifient comme (LGBTQ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ans oublier ceux qui s’identifient autres que LGBTQ, ce sont les hommes ayant le sexe avec les hommes (HSH)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7576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6600"/>
                </a:solidFill>
                <a:latin typeface="Century Gothic"/>
              </a:rPr>
              <a:t>VIH: </a:t>
            </a:r>
            <a:r>
              <a:rPr b="1" lang="fr-CA" sz="3000" spc="-1" strike="noStrike" u="sng">
                <a:solidFill>
                  <a:srgbClr val="006600"/>
                </a:solidFill>
                <a:uFillTx/>
                <a:latin typeface="Century Gothic"/>
              </a:rPr>
              <a:t>Virus d’Immunodéficience Hum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6600"/>
                </a:solidFill>
                <a:latin typeface="Century Gothic"/>
              </a:rPr>
              <a:t>Attaque et affaiblit le système immunitai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6600"/>
                </a:solidFill>
                <a:latin typeface="Century Gothic"/>
              </a:rPr>
              <a:t>SIDA: </a:t>
            </a:r>
            <a:r>
              <a:rPr b="1" lang="fr-CA" sz="3000" spc="-1" strike="noStrike" u="sng">
                <a:solidFill>
                  <a:srgbClr val="006600"/>
                </a:solidFill>
                <a:uFillTx/>
                <a:latin typeface="Century Gothic"/>
              </a:rPr>
              <a:t>Syndrome d’Immunodéficience Acqui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6600"/>
                </a:solidFill>
                <a:latin typeface="Century Gothic"/>
              </a:rPr>
              <a:t>Une maladie chronique causée par l’infection du VIH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liquides corporels qui transmettent le VI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sang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sperm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liquide recta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secrétions vaginal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lait matern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modes de transmissions du VI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relations sexuelles non protégé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partage des accessoires sexuel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partage ou la réutilisation des seringues et des aiguill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D’un mère à son fœtus durant la grossesse, l’accouchement ou l’allaitem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2644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68000" y="1341360"/>
            <a:ext cx="8218440" cy="511344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 bais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peuvent se trouver dans la saliv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peuvent se transmettre par des coupures ou des plaies dans la bou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 touch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causent des bosses, des éruptions cutanée ou du pu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 or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De nombreuses ITS peuvent se trouver dans les fluides génitaux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s vagin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liquides corporels peuvent contenir tout type d’IT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s an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2060"/>
                </a:solidFill>
                <a:latin typeface="Century Gothic"/>
              </a:rPr>
              <a:t>La meilleure protection contre les ITS est de s’absteni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2060"/>
                </a:solidFill>
                <a:latin typeface="Century Gothic"/>
              </a:rPr>
              <a:t>Autres méthod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es préservatifs (féminins et masculins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’usage de seringue  uniqu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a fidélit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’isolem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pleine intég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problème d’immigration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fréquent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stigma et la discrimin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jugement et le mépris de la communaut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pauvret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95280" y="1628640"/>
            <a:ext cx="8291520" cy="482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entury Gothic"/>
              </a:rPr>
              <a:t>Le succès de l’organisation dans le domaine de servir la communauté LGBTQ Africaine et Caraibéenne, est dû à l’approche culturelle et linguistique que nous avons au sein d’APA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baba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PA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 une organisation qui fait de son mieux pour éduquer et véhiculer l’information sur le VIH ainsi que le support à toutes les couches de la communauté Africain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e lance donc un appel ardent à tous et à toutes de travailler ensemble pour aider à la bonne integration  des nouveaux arrivants LGBTQ francophones au Canad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Merci beaucoup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de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votre atten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57736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entury Gothic"/>
              </a:rPr>
              <a:t>Africans in Partnership Against AIDS (APAA) est une organisation  canadienne à but non lucratif créé par les membres de la communauté africaine, pour répondre aux différents défis posés par le VIH/SIDA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Century Gothic"/>
              </a:rPr>
              <a:t>Questions? 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0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Veuillez contacter: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Africans in Partnership Against Aid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314 rue Jarvis Suite 10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Toronto, Ontario M5B 2C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416-924-522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95280" y="1844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ôle de premier pl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eaderhip communautair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Expertise sur les questions  du SID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300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Century Gothic"/>
              </a:rPr>
              <a:t>Madame Fanta Ongoiba, Directrice générale d’APAA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628640"/>
            <a:ext cx="8229600" cy="4826160"/>
          </a:xfrm>
          <a:prstGeom prst="rect">
            <a:avLst/>
          </a:prstGeom>
          <a:solidFill>
            <a:srgbClr val="ffb8f2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Éduquer et soutenir les patients atteints du VIH / SIDA  dans un contexte linguistique et culturel approprié aux peuples africain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Créer une organisation et une communauté stable pour répondre à l'impact des effets du VIH / SIDA à travers le développement, le partenariat, la croissance et le développement communautai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especter les valeurs et les traditions culturelles et  répondre aux besoins de servic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 u="sng">
                <a:solidFill>
                  <a:srgbClr val="000099"/>
                </a:solidFill>
                <a:uFillTx/>
                <a:latin typeface="Century Gothic"/>
              </a:rPr>
              <a:t>L’immigration des Noir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ébute en160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e 1628  à 1800 : Esclaves Noirs sur la côte Es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À partir de 1900 :le nombre d’immigrants augment lentement,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ès 1960 : Augmentation considérable avec la réforme de politique d’immigrat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Qui so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D’où vienne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s’identifie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reconnait-on un LGBTQ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bien arrivent-ils en moyenne chaque anné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Lieux de rencont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Programme LGBTQ à APA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68000" y="259920"/>
            <a:ext cx="8218440" cy="619452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Qui so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Ils sont des Afro-Caribéens qui s’identifient  comme Lesbiennes, Gays, Bisexuels, Transexuels et en questionne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D’où viennent-il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	</a:t>
            </a: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Des divers pays d’Afrique et des Caraïb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Comment s’identifient-il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Se voient différents des autres de par leur orientation sexuell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2" descr=""/>
          <p:cNvPicPr/>
          <p:nvPr/>
        </p:nvPicPr>
        <p:blipFill>
          <a:blip r:embed="rId1"/>
          <a:stretch/>
        </p:blipFill>
        <p:spPr>
          <a:xfrm>
            <a:off x="-85680" y="1895400"/>
            <a:ext cx="2878200" cy="1139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96840" y="4127400"/>
            <a:ext cx="2232000" cy="2187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3"/>
          <a:stretch/>
        </p:blipFill>
        <p:spPr>
          <a:xfrm>
            <a:off x="6523200" y="4127400"/>
            <a:ext cx="2541600" cy="2187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4"/>
          <a:stretch/>
        </p:blipFill>
        <p:spPr>
          <a:xfrm>
            <a:off x="92160" y="262080"/>
            <a:ext cx="2431800" cy="1884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5"/>
          <a:stretch/>
        </p:blipFill>
        <p:spPr>
          <a:xfrm>
            <a:off x="6480000" y="262080"/>
            <a:ext cx="2584800" cy="2279520"/>
          </a:xfrm>
          <a:prstGeom prst="rect">
            <a:avLst/>
          </a:prstGeom>
          <a:ln w="0">
            <a:noFill/>
          </a:ln>
        </p:spPr>
      </p:pic>
      <p:sp>
        <p:nvSpPr>
          <p:cNvPr id="372" name="Title 2"/>
          <p:cNvSpPr/>
          <p:nvPr/>
        </p:nvSpPr>
        <p:spPr>
          <a:xfrm>
            <a:off x="6394320" y="2428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G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itle 2"/>
          <p:cNvSpPr/>
          <p:nvPr/>
        </p:nvSpPr>
        <p:spPr>
          <a:xfrm>
            <a:off x="-158760" y="6046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Bisex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tle 2"/>
          <p:cNvSpPr/>
          <p:nvPr/>
        </p:nvSpPr>
        <p:spPr>
          <a:xfrm>
            <a:off x="6410160" y="6046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Transex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itle 2"/>
          <p:cNvSpPr/>
          <p:nvPr/>
        </p:nvSpPr>
        <p:spPr>
          <a:xfrm>
            <a:off x="3168720" y="4233960"/>
            <a:ext cx="274788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Questio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6"/>
          <a:stretch/>
        </p:blipFill>
        <p:spPr>
          <a:xfrm>
            <a:off x="3462480" y="1932120"/>
            <a:ext cx="2157120" cy="26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000" y="259920"/>
            <a:ext cx="821844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Content Placeholder 2"/>
          <p:cNvSpPr/>
          <p:nvPr/>
        </p:nvSpPr>
        <p:spPr>
          <a:xfrm>
            <a:off x="684360" y="476280"/>
            <a:ext cx="8218440" cy="619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reconnait –on un LGBTQ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Il n’ya pas une façon ou une autre de comment reconnaitre un LGBTQ, car ils sont comme tout le monde, par contre d’autres s’affichent par leurs façons de faire ou d’agi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Combien arrivent-ils en moyen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A APAA nous voyons 18 personnes en moyenne par mois et, ils sont entre 18 à 30 ans et plus tous, africains et caribéens en majorité de religion chrétienn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9:17:27Z</dcterms:created>
  <dc:creator>felsoni</dc:creator>
  <dc:description/>
  <dc:language>en-US</dc:language>
  <cp:lastModifiedBy>ltshiswaka</cp:lastModifiedBy>
  <dcterms:modified xsi:type="dcterms:W3CDTF">2013-11-11T22:04:22Z</dcterms:modified>
  <cp:revision>141</cp:revision>
  <dc:subject/>
  <dc:title>Comportement sexuel relatif au VIH/SIDA</dc:title>
</cp:coreProperties>
</file>